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948BB-EE72-42CD-A048-E461D912ED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6C565-B26D-417F-8A66-0B56C31561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ple loosestrife = an introduced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etlands plant from Europe - like many species was released acciden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ballast water in ships docked at port (seeds in water)  Also introdu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an herbal remed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natural enemies here, so sprea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eliminated many native plants that provide food and cover for wildlife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tlands of Canada and the U.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gan on the East Coast and has sp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y prolific, spread in water and by livestock that walk through mud th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ries the seeds.  20,000 seeds per 1.2 square yards in some ar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l plant so shades other native plants and blocks their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vestock doesn’t like is to won’t feed on it.  Reduces the carrying capacit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grazing ar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rd to kill.  Regrows from roots if plant is cut, burned or spray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 now is on bringing in natural paras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9ADE7-B2A0-4236-A860-5FC3D8D856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224E6-AA7B-4215-BA5A-DEB157F223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45D3A-015F-4734-8CDE-61BF6279FD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ater evenness in a community appears more diverf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 pg 119 fig 7.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second picture, is walking through the community would have g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ces of seeing all the different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9BE0D-1AE1-4DCD-90C5-7B93B15407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50142-7949-4122-B698-55C8C56EF1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9D43B-4AB2-49E5-A7DC-6786F95A18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4CC4A-079F-493E-B935-B54845CAAE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numerous groups, with most members know, are the insects and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species have yet to be discovered, many in the tropical rainfore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so many species? Seems to be related to compet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D6D30-91C4-44B7-BC35-4740F5280A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D870B-9304-4DE0-BDBB-693E3D264A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53EDA-282C-4F3D-A1D8-C327E87ED7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B42DF-0145-43FF-84A8-F21B813ABA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3B478-74B1-40F5-9AAE-70D2FEFCDF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y was introduced into GB because it was “cut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out-competing the Red Squirrel which is n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wint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ys eat acorns from oa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do well since most of the areas have oak (It is the dominant large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G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s may ago extinct in the next 20 years (if not….will be left to areas th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not have any oak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C400B-0F1A-4E24-8479-6EEB580D5F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56D0B-291E-424F-87EE-95CEDE361E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A2A21-F00F-4106-A9F8-06A87EED21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A5D55-3E40-451B-8E3A-002AD868F9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tchinson is the scientist who first suggested this 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 flat worm stucy on page 125.  Fig 7.6  Also barnacle example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o bo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ave an endangered species we must make sure that all the life requirements for that species are pres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5428A-3240-4AB0-AFC6-67A7B652D5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8F878-D98C-465B-9F74-52407E9B74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6F705-DD11-4F2E-AB96-3B9EAA3B90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13D77-3D4A-495D-B880-2CE8B12966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2299B-D53F-4C60-A596-43C3683CFF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3276E-6685-4DF2-9C27-CA6638AD96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E0F87-36E8-4D4E-90B5-34445E242A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5AF57-18E3-4F77-81D7-518D5B3601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34119-6C29-4635-9D7E-DF43682C52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1876 A.R. Wallace suggested idea or realm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arctic = North Ame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otropial = cental and south ame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laearctic = europe, north asia and north af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iental = indian subcontinent and malays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stralian = au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CC5B0-8031-44DA-9EFE-ECDA1F0BC0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35DD2-3660-4DE9-AB32-3192112B18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B5A06-C446-4369-9F30-7EF5BB35D6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21480-B058-45E1-8583-92ABE854F0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examples = fish and marine mammals,  birds and bats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106F2-B7FE-407E-9C9D-D596C36A51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5E313-C156-4A07-A1E4-B575D493D2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308B1-449F-4947-BDC8-8B3945D842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8EE42-4FAC-45BF-80E1-1D708B040A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682FD-E519-4093-80DA-E472135C13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C0CF7-E3FE-400D-B739-F5D71A7964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aptive radiation: classic example is Darwin’s finch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es diversity and isl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and 2) smaller islands have fewer types of habita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less likely to be found by migr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sk of extinction is higher for smaller pops and smaller islan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they can only support smaller pops (see pg 138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 Sources of species on islands = evolution and migration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rther away = fewer migran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migration and speciation rate - extinction rate = # of species on is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nds to maintain at a constant 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98C93-4ECE-43E7-BE38-F6079F4B34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54BA6-7D38-4247-8BC2-80CC4B6DB2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C7127-54B5-496F-9572-A16EF44DE2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656D3-C352-46A3-9689-B55A07FF70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63C82-36DB-4D17-A72F-725DFD9320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33B50-F7EA-4116-890D-0C2D521ED3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9645-72CB-43FB-8E29-C75D1AE88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7210-F7E9-4A88-938B-0B9D247BB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CE8A-2B12-4007-B6D7-D875EA7F1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31C7-A54B-41CF-BA4A-5614010D6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7CB7B-0C81-4804-BFDF-8E3C735A0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406AE-74F5-4864-B967-6BD5BD2DD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66086-380F-40EA-A677-23B377E78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15113-486D-40AA-844D-CCCDE78DE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8C309-27EC-41EB-9C12-BECF4DF35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4A4C4-DA5E-4D11-9BCD-291B213B0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4D8E4-B54C-4D24-BEBC-1C4FE3D45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15ED-ED47-4AF8-8844-3EE5E2617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CC2D0-BBCE-46AB-81D5-4E1F22A61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7089C-07B5-4A05-8384-C81D9098F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9A350-00D4-44D1-B558-C9284BCFD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4749C-B523-4D34-AB8B-200ADCC07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D6D6E-51FD-4EAF-9873-E7D2869C1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4558-4041-4C97-B2F0-A9DC93066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C77B-3214-420F-854F-B4411D497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B096-DDB8-4D40-83B2-56A77D14A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F636-6C3C-4960-A360-82927764F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56FD-EF13-4F30-A774-B601BBDCA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B5E1-1735-4EE9-B51E-CBBBDC505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D957-0050-4A90-BA2A-DF0F59D2C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D7F10-6D14-4290-B508-6523984887B2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AABD5-1065-44DE-A082-8148332E8F7F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hapter 7 and 8 - Biological Diversity and Biogeograph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437920" y="1905120"/>
            <a:ext cx="4419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98989"/>
                </a:solidFill>
                <a:latin typeface="Calibri"/>
              </a:rPr>
              <a:t>Case Study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98989"/>
                </a:solidFill>
                <a:latin typeface="Calibri"/>
              </a:rPr>
              <a:t>Salmon Importance!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5" descr="bottleneck"/>
          <p:cNvPicPr/>
          <p:nvPr/>
        </p:nvPicPr>
        <p:blipFill>
          <a:blip r:embed="rId1"/>
          <a:stretch/>
        </p:blipFill>
        <p:spPr>
          <a:xfrm>
            <a:off x="380880" y="685800"/>
            <a:ext cx="8458200" cy="57150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8"/>
          <p:cNvSpPr/>
          <p:nvPr/>
        </p:nvSpPr>
        <p:spPr>
          <a:xfrm>
            <a:off x="533520" y="58672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eme hunting left only 2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4876920" y="586728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w individuals left – why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ic Concepts of Biodivers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838080" y="1447560"/>
            <a:ext cx="83059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 major concept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.  Genetic divers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  Habitat diversit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2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10666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.  Species diversity: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.  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Species richness –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b.  Species evenness –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c.  Species dominance -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4"/>
          <p:cNvSpPr/>
          <p:nvPr/>
        </p:nvSpPr>
        <p:spPr>
          <a:xfrm>
            <a:off x="457200" y="1676520"/>
            <a:ext cx="8229600" cy="45720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w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hannon-Weiner Biodiversity Index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Read and do sample problem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how all work and solve for H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’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Also:  Calculate 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Calibri"/>
              </a:rPr>
              <a:t>Evenness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for each problem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000000"/>
                </a:solidFill>
                <a:uFillTx/>
                <a:latin typeface="Calibri"/>
              </a:rPr>
              <a:t>Evenness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ormula =   H’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/ ln 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 = number of different speci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Absolute evenness = 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4"/>
          <p:cNvSpPr/>
          <p:nvPr/>
        </p:nvSpPr>
        <p:spPr>
          <a:xfrm>
            <a:off x="457200" y="685800"/>
            <a:ext cx="8305920" cy="61722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838080"/>
            <a:ext cx="7313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Hwk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914040" y="1447920"/>
            <a:ext cx="7769160" cy="44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re-lab work for W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nswer pre-lab questio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#1 in INB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#2 and 3 become your hypothesis, under purpose on title p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alculate S-W biodiversity index for both pictures (fig. 7.4) on page 123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olve for 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alibri"/>
              </a:rPr>
              <a:t>’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and Evennes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how all work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69800" y="-11880"/>
            <a:ext cx="7313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762120" y="8377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ecies habitat term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otic = introduced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demic = na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smopolitan - very broad distribution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Calibri"/>
              </a:rPr>
              <a:t>but need similar habita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biquitous = found almost everywhere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Calibri"/>
              </a:rPr>
              <a:t>even very different habitats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many species on Earth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8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Uncertai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Prior to fogging study: Range =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1 - 3 mill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After study: 10 -100 million!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5" descr="a collage of biodiversity-related images. Copyright of Flinders University. Individual images used with permission."/>
          <p:cNvPicPr/>
          <p:nvPr/>
        </p:nvPicPr>
        <p:blipFill>
          <a:blip r:embed="rId1"/>
          <a:stretch/>
        </p:blipFill>
        <p:spPr>
          <a:xfrm>
            <a:off x="4724280" y="1600200"/>
            <a:ext cx="40388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nteractions Between Speci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09480" y="1066680"/>
            <a:ext cx="838224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ind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 Competition:  negative for bo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369800" y="228240"/>
            <a:ext cx="7313400" cy="571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 Symbiosis:  both benef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very common; exists amongst most plants and anim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369800" y="0"/>
            <a:ext cx="7313400" cy="594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 Predation - parasitism:  positiv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one and negative for th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t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360" y="-22896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What is biological evolution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295280" y="990360"/>
            <a:ext cx="7313760" cy="50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It’s the change in inherited characteristics of a population from generation to generation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What are some process that lead to biological evolution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1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2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3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4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5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1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456840"/>
            <a:ext cx="830592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clusion Dominance and Diversity: The Competitive Princi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etitive exclusion = 2 species with exact same requirements cannot coexist in the same habitat.  They will compete and the more fit one will win out and pers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6858000" y="6095880"/>
            <a:ext cx="228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2003 John Wiley and Sons Publishe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228600" y="228600"/>
            <a:ext cx="18288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 7.6  A classical experiment with flour beetl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Picture 5" descr="F7_6"/>
          <p:cNvPicPr/>
          <p:nvPr/>
        </p:nvPicPr>
        <p:blipFill>
          <a:blip r:embed="rId1"/>
          <a:stretch/>
        </p:blipFill>
        <p:spPr>
          <a:xfrm>
            <a:off x="0" y="0"/>
            <a:ext cx="9372600" cy="675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72840" y="244440"/>
            <a:ext cx="690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09480" y="-360"/>
            <a:ext cx="8305920" cy="716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iche: how species co-exis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habitat i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whe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n org lives as compared to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wha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t does to survive, which is its’ ecological nich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ecies that require the same resources can coexist only if they can utilize them under different env. conditions (different ecological niches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69800" y="140400"/>
            <a:ext cx="7313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ecies that require the same resources can coexist only if they can utilize them under different env. conditions (different ecological niches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-12312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440" y="457200"/>
            <a:ext cx="84582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iches can be measured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range of niche a species will occupy with no competitor is called its’ fundamental nich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range in which it actually lives, if it is having to compete, is called its’ realized nich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6400800" y="640080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2003 John Wiley and Sons Publishe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228600" y="228600"/>
            <a:ext cx="487692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 7.7  The occurrence of freshwater flatworms in cold mountain streams in Great Britai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3" name="Picture 5" descr="F7_7"/>
          <p:cNvPicPr/>
          <p:nvPr/>
        </p:nvPicPr>
        <p:blipFill>
          <a:blip r:embed="rId1"/>
          <a:stretch/>
        </p:blipFill>
        <p:spPr>
          <a:xfrm>
            <a:off x="0" y="-533520"/>
            <a:ext cx="9144000" cy="739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nvironmental Factors That Influence Diversity!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versity varies from place to pla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nerally, greater in lower latitud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72840" y="14400"/>
            <a:ext cx="690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560" y="533520"/>
            <a:ext cx="830556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ological gradient:  the change in relative abundance of a species over an area (ie: change in elevation in the mtns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Picture 6" descr="F7_10"/>
          <p:cNvPicPr/>
          <p:nvPr/>
        </p:nvPicPr>
        <p:blipFill>
          <a:blip r:embed="rId1"/>
          <a:stretch/>
        </p:blipFill>
        <p:spPr>
          <a:xfrm>
            <a:off x="304920" y="2514600"/>
            <a:ext cx="88390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6400800" y="640080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2003 John Wiley and Sons Publishe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Rectangle 5"/>
          <p:cNvSpPr/>
          <p:nvPr/>
        </p:nvSpPr>
        <p:spPr>
          <a:xfrm>
            <a:off x="228600" y="228600"/>
            <a:ext cx="38862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 7.10  Change in the relative abundance of a species over an area or a distance is referred to as an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ecological gradien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2" name="Picture 6" descr="F7_10"/>
          <p:cNvPicPr/>
          <p:nvPr/>
        </p:nvPicPr>
        <p:blipFill>
          <a:blip r:embed="rId1"/>
          <a:stretch/>
        </p:blipFill>
        <p:spPr>
          <a:xfrm>
            <a:off x="304920" y="1295280"/>
            <a:ext cx="883908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-23796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85440" y="-360"/>
            <a:ext cx="792468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ctors that increase or decrease diversit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Calibri"/>
              </a:rPr>
              <a:t>Increase diversity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1.  Physically diverse habita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2.  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Calibri"/>
              </a:rPr>
              <a:t>Moderate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disturbanc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3.  Small variation in env. condition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4.  High diversity at one trophic level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    increases diversity of another leve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685800" y="837720"/>
            <a:ext cx="830592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utations ma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-8496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160" y="-380880"/>
            <a:ext cx="8458200" cy="723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Calibri"/>
              </a:rPr>
              <a:t>Decrease divers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1.  Environmental stres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2.  Extreme environmental condition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3.  Severe limitation of an essential resourc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4.  Extreme disturbanc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5.  Recent exotic specie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6.  Geographic isolation (island effect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06600" y="14400"/>
            <a:ext cx="69055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685440" y="609120"/>
            <a:ext cx="84582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umans greatly affect diversity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velopment and indust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avoring one species over anot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nipulating environ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ecies diversity in an area may change over time, seasons, decades, centuries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9480" y="-64764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Geography of Lif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533520"/>
            <a:ext cx="82296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kinds and numbers of species varies greatly from place to place.  These large-scale global patterns are called biogeograph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Picture 5" descr="F7_11"/>
          <p:cNvPicPr/>
          <p:nvPr/>
        </p:nvPicPr>
        <p:blipFill>
          <a:blip r:embed="rId1"/>
          <a:stretch/>
        </p:blipFill>
        <p:spPr>
          <a:xfrm>
            <a:off x="380880" y="2362320"/>
            <a:ext cx="84582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69800" y="25560"/>
            <a:ext cx="7313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iotic Provi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 “realms” were identified in 1876 based on the types of animals found ther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Remember: classification of orgs are based on evolutionary relationships or similar characteristic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6248520" y="6400800"/>
            <a:ext cx="289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2003 John Wiley and Sons Publishe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228600" y="228600"/>
            <a:ext cx="449568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 8.3  The major vegetation realms are also based on genetic factor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7" name="Picture 5" descr="F8_3"/>
          <p:cNvPicPr/>
          <p:nvPr/>
        </p:nvPicPr>
        <p:blipFill>
          <a:blip r:embed="rId1"/>
          <a:stretch/>
        </p:blipFill>
        <p:spPr>
          <a:xfrm>
            <a:off x="304920" y="1066680"/>
            <a:ext cx="883908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-763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440" y="228600"/>
            <a:ext cx="84582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inental drift explains the origin of these provinces as land masses periodically unified (genetic mix and spread of species) and then separated (isolation and speciatio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7772400" cy="76320"/>
          </a:xfrm>
          <a:prstGeom prst="rect">
            <a:avLst/>
          </a:prstGeom>
          <a:noFill/>
          <a:ln w="0">
            <a:noFill/>
          </a:ln>
        </p:spPr>
        <p:txBody>
          <a:bodyPr tIns="30600" bIns="30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04920" y="456840"/>
            <a:ext cx="86868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Biom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ach continent has diverse climates and habitats so diversity of species is hig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iome = a kind of eco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ilar environmental conditions (selective pressures) lead to evolution of orgs similar in form and function but not genetic heritage or internal make-up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6248520" y="6400800"/>
            <a:ext cx="289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2003 John Wiley and Sons Publishe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228600" y="228600"/>
            <a:ext cx="4343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 8.13  Global distribution of the major land biom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5" name="Picture 5" descr="F8_13"/>
          <p:cNvPicPr/>
          <p:nvPr/>
        </p:nvPicPr>
        <p:blipFill>
          <a:blip r:embed="rId1"/>
          <a:stretch/>
        </p:blipFill>
        <p:spPr>
          <a:xfrm>
            <a:off x="0" y="1141560"/>
            <a:ext cx="9144000" cy="57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3520" y="-8496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440" y="0"/>
            <a:ext cx="84582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vergent evolution occurs when a pop. is separated and evolves in isolation from main groups, often under different selective pressures.  They have common ancestry and retain some common characteristics of their ancestors. (ex: marine mammal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0147320" cy="742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685800" y="228600"/>
            <a:ext cx="830592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atural Sele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elies on variation of individuals within a species.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Genetic diversity is key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ose orgs with traits that make them better fit or adapted survive well, reproduce more and pass these helpful traits on to their offspr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eppered moth = classic example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6248520" y="6400800"/>
            <a:ext cx="289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2003 John Wiley and Sons Publishe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Rectangle 4"/>
          <p:cNvSpPr/>
          <p:nvPr/>
        </p:nvSpPr>
        <p:spPr>
          <a:xfrm>
            <a:off x="228600" y="228600"/>
            <a:ext cx="4343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g 8.10  Evolutionary divergence among honeycreepers in Hawaii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2" name="Picture 5" descr="F8_10"/>
          <p:cNvPicPr/>
          <p:nvPr/>
        </p:nvPicPr>
        <p:blipFill>
          <a:blip r:embed="rId1"/>
          <a:stretch/>
        </p:blipFill>
        <p:spPr>
          <a:xfrm>
            <a:off x="1143000" y="843120"/>
            <a:ext cx="7238880" cy="545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-1612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85440" y="457200"/>
            <a:ext cx="84582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Island Biogeograph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nerally observe adaptive radiation: species evolve by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divergent evolut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s they separate into smaller groups, often on different islands, each adapting to a more specialized role (nich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pecies diversity and island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6248520" y="6400800"/>
            <a:ext cx="289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2003 John Wiley and Sons Publishe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228600" y="228600"/>
            <a:ext cx="4343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 8.11 Idealized relation of an island’s size, distance from the mainland, and number of species. Pg 138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8" name="Picture 5" descr="F8_11"/>
          <p:cNvPicPr/>
          <p:nvPr/>
        </p:nvPicPr>
        <p:blipFill>
          <a:blip r:embed="rId1"/>
          <a:stretch/>
        </p:blipFill>
        <p:spPr>
          <a:xfrm>
            <a:off x="0" y="1066680"/>
            <a:ext cx="8610480" cy="53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3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4213080" cy="37339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"/>
          <p:cNvPicPr/>
          <p:nvPr/>
        </p:nvPicPr>
        <p:blipFill>
          <a:blip r:embed="rId2"/>
          <a:stretch/>
        </p:blipFill>
        <p:spPr>
          <a:xfrm>
            <a:off x="4648320" y="2585880"/>
            <a:ext cx="4114800" cy="4043520"/>
          </a:xfrm>
          <a:prstGeom prst="rect">
            <a:avLst/>
          </a:prstGeom>
          <a:ln w="0">
            <a:noFill/>
          </a:ln>
        </p:spPr>
      </p:pic>
      <p:sp>
        <p:nvSpPr>
          <p:cNvPr id="97" name="Text Box 5"/>
          <p:cNvSpPr/>
          <p:nvPr/>
        </p:nvSpPr>
        <p:spPr>
          <a:xfrm>
            <a:off x="685800" y="601992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tos by Ken Mill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85800" y="228600"/>
            <a:ext cx="82296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peciation (evolution of a new speci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.  Geographic isolation of two populations of the same spec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  They each evolve separate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ventually differences accumul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62012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3"/>
          <p:cNvSpPr/>
          <p:nvPr/>
        </p:nvSpPr>
        <p:spPr>
          <a:xfrm>
            <a:off x="3352680" y="2971800"/>
            <a:ext cx="335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roductive isolation can occur due to mutations to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Line 4"/>
          <p:cNvSpPr/>
          <p:nvPr/>
        </p:nvSpPr>
        <p:spPr>
          <a:xfrm>
            <a:off x="5486400" y="3581280"/>
            <a:ext cx="160020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685800" y="-360"/>
            <a:ext cx="830592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Migr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During migration different selective pressures may be encountered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Populations may become separated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Genetic Drif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Changes in gene frequency of a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population due to chance - not due to being better adapted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May greatly impact small population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Dangerous for rare and endangered speci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0066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7T02:27:05Z</dcterms:created>
  <dc:creator>santiago high school</dc:creator>
  <dc:description/>
  <dc:language>en-US</dc:language>
  <cp:lastModifiedBy>tosborne</cp:lastModifiedBy>
  <dcterms:modified xsi:type="dcterms:W3CDTF">2010-10-22T20:29:50Z</dcterms:modified>
  <cp:revision>56</cp:revision>
  <dc:subject/>
  <dc:title>Chapter 7 - Biological Diversity and Biogeography</dc:title>
</cp:coreProperties>
</file>